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B0C-AC09-43F2-B038-913C38EA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05D-4045-4F55-996E-EBA567C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113-98F4-4477-8EE0-FFDD2BD5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229-E522-4586-A0E8-7C49CD41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48EC-3335-4DA4-9BAF-2FE55605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09E4-7180-4C21-A9E8-0ABDDA6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E609-75C5-4952-A84D-9A9A02A7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518F-90A4-4D70-8E24-61458A3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161-FB46-4A74-BCA4-43A8E3F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D575-A72F-46C2-B999-C3EE7CB8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720A-448D-40CC-A4CC-B483BC5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BB6-674E-40EC-B171-FD66E0CA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DC05-280A-4BC2-8A5F-27C217A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84F5-F68F-4605-A352-BFB101D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713-079C-4E7E-B7CF-7E32711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B08B-AD26-4B6F-9D99-97E830E4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A214-7DF2-42B8-97E1-EA9E0DA9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2DD1-0789-4F34-B440-52D3C554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7D69-F45A-4D13-A8C9-CAC5724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75DA-D10A-4BEC-A3CF-25AF5B6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1E4A-9312-498C-BB38-ADD269B7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0CFA-FA1A-4F35-80BB-EABFF845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6B9-63EF-46C3-8C79-090B253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33E2-0C6A-4DD4-96EC-5AFB739C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7FA3-D85F-4FA2-BF16-76203A9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5727-29E5-46F7-B3AB-58B277E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B50F-0064-4F5A-8F8C-305EF6F7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86F5-6C90-4445-A1BE-ADF57F8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BCA9-680C-492B-9FBF-549D266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0ABB-F259-4535-82B3-58AF1204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D34-8DFE-481A-AB95-C51D800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2F3-AE1B-4CAE-AA17-EF0879FA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888-B837-436F-BBDB-C68F6927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AAB-F822-4742-A27D-1B9FE06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F69-5AA2-4B14-A20A-94CC68B4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B4A-C6FE-4A03-B3E3-9F4A657D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BA8-3346-4939-A9A5-2906DC43017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8F5-FD8D-44B8-A679-746BEA7787F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5038-5FF2-42B5-A2A9-0C8F4395401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20A2-2647-4466-AD71-39BFE184662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AC5E-2F5B-4440-AB61-5123A3322D8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ED05-D733-4DC3-8AEF-E9705B93890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04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counting for Invent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3712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rchandise Inventory is typically the largest asset of a merchandising busines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vailable but no exces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st of Merchandise Inventory is reported on both the Balance Sheet and Income State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ffec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Retained Earnings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n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Current Assets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n the Balance Shee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Gross Profi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nd Net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ncome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on the Income State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Quantity of Merchandise Inventory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9000" y="107784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News Gothic MT"/>
              </a:rPr>
              <a:t>Larger Than Need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2133360"/>
            <a:ext cx="384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More space and Mone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astes capit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More Expense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0920" y="107784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7d7"/>
                </a:solidFill>
                <a:latin typeface="News Gothic MT"/>
              </a:rPr>
              <a:t>Less than Need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50920" y="2133360"/>
            <a:ext cx="384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ales lost to competitor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sufficient Varie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2401"/>
              </a:spcAft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mall orders cost mo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ventory Metho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00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b7d7"/>
                </a:solidFill>
                <a:latin typeface="News Gothic MT"/>
              </a:rPr>
              <a:t>Physic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9000" y="2347920"/>
            <a:ext cx="38401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hysically counting, measuring, or weighing merchandise on hand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lso known as Periodic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ypically performed at specific times (End of Fiscal Period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092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b7d7"/>
                </a:solidFill>
                <a:latin typeface="News Gothic MT"/>
              </a:rPr>
              <a:t>Perpetu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50920" y="2347920"/>
            <a:ext cx="38401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ontinuous record of tracking merchandise on hand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lso known as Book Inventor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ypically tracked using computer system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8432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VENTORY RECOR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7" name="Picture 4" descr="D:\C21 PowerPoint\Multi_Journal\art for blue\Ch22\Ch22-01a.jpg"/>
          <p:cNvPicPr/>
          <p:nvPr/>
        </p:nvPicPr>
        <p:blipFill>
          <a:blip r:embed="rId2"/>
          <a:srcRect l="18822" t="0" r="0" b="65331"/>
          <a:stretch/>
        </p:blipFill>
        <p:spPr>
          <a:xfrm>
            <a:off x="457200" y="1752480"/>
            <a:ext cx="8153280" cy="340704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152388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7162920" y="25909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724280" y="3352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14440" y="59961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Price and Total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14440" y="525780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tock Number an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14440" y="562284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344360" y="67809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1, page 5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77720" y="11430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during Physical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4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TOCK RECOR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7" name="Picture 4" descr="D:\C21 PowerPoint\Multi_Journal\art for blue\Ch22\Ch22-01b.jpg"/>
          <p:cNvPicPr/>
          <p:nvPr/>
        </p:nvPicPr>
        <p:blipFill>
          <a:blip r:embed="rId2"/>
          <a:srcRect l="16061" t="0" r="0" b="63144"/>
          <a:stretch/>
        </p:blipFill>
        <p:spPr>
          <a:xfrm>
            <a:off x="457200" y="1477800"/>
            <a:ext cx="7238880" cy="388152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1752480" y="39164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7467480" y="42973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4800600" y="4678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14440" y="62546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alance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14440" y="551664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urchas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14440" y="588168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1, page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3400" y="9129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Perpetual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Universal Product Cod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457200" y="18702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perform the function of a stock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cides with the Point Of Sale (POS) system to efficiently keep track of inventory, reducing the inventory when a product is s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Inventory is still needed to affirm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20:08:25Z</dcterms:created>
  <dc:creator>Mary Colleen McLaughlin</dc:creator>
  <dc:description/>
  <dc:language>en-US</dc:language>
  <cp:lastModifiedBy>David Combs</cp:lastModifiedBy>
  <dcterms:modified xsi:type="dcterms:W3CDTF">2011-10-30T21:32:23Z</dcterms:modified>
  <cp:revision>69</cp:revision>
  <dc:subject/>
  <dc:title>ADJUSTING ENTRY FOR SUPPLIES</dc:title>
</cp:coreProperties>
</file>